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DF5-4DF1-4DD3-8C0F-F92D95E7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722-7FD2-4093-A3F7-617FE276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453-7F10-4303-B01A-D4C831B2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F4-22A1-45B3-9950-279065FA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8F2-CE6F-4528-96C8-2FCB314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5F6-9839-4E1A-8B2F-6279F1A8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7AA-05E4-4129-8965-33757A83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260-E76D-4448-936A-0D3523A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0EB-57E6-43AF-AD04-B6D09558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368-A9EE-4D3B-BB4E-2D88D70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621-C06C-43C6-89CB-6C50C65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F77-D790-435B-9CB3-D26BA03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6975-2817-42CD-9090-EA24E597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25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(not C), you can define operators on class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operators include: +, -, +=, &lt;, ++, %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sed properly, can greatly improve clarity and usability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asily be ab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Overloading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(int initVal = 0) { m_val = init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Val() { return m_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v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operator+ (Integer&amp; lhs, Integer&amp; r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(lhs.GetVal() + rhs.GetVal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31080" y="3962520"/>
            <a:ext cx="4179600" cy="838080"/>
            <a:chOff x="1531080" y="3962520"/>
            <a:chExt cx="4179600" cy="838080"/>
          </a:xfrm>
        </p:grpSpPr>
        <p:sp>
          <p:nvSpPr>
            <p:cNvPr id="48" name=""/>
            <p:cNvSpPr/>
            <p:nvPr/>
          </p:nvSpPr>
          <p:spPr>
            <a:xfrm>
              <a:off x="1531080" y="3962520"/>
              <a:ext cx="4179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function: 2 para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0" y="4441680"/>
              <a:ext cx="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a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b(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c =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c = %d\n", c.GetVal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9360" y="5105520"/>
            <a:ext cx="1181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way to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(int initVal = 0) { m_val = init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Val() { return m_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operator+ (Integer &amp;r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(m_val + rhs.m_v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v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444040" y="2787480"/>
            <a:ext cx="4266720" cy="838080"/>
            <a:chOff x="2444040" y="2787480"/>
            <a:chExt cx="4266720" cy="838080"/>
          </a:xfrm>
        </p:grpSpPr>
        <p:sp>
          <p:nvSpPr>
            <p:cNvPr id="56" name=""/>
            <p:cNvSpPr/>
            <p:nvPr/>
          </p:nvSpPr>
          <p:spPr>
            <a:xfrm>
              <a:off x="2444040" y="2787480"/>
              <a:ext cx="426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ber function: 1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040" y="3246120"/>
              <a:ext cx="0" cy="37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abuse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(int initVal = 0) { m_val = initVal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operator+ () // Overload unary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Value = %d\n", m_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_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a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a; // Extremely unclea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&amp;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must either b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ake at least one parameter that i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ors declar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ors declar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oaded operators cannot have defaul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verloaded operators except assignment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inherited by deriv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Overloading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operator-overloading metho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ing the class the methods are defi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n'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ute: use it only when it makes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load operators in a symentric fashion; for example, if you overload the Equal operator (==) overload not equals (!=)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alternate signatures; for example, provide both Add() and operator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4:24:08Z</dcterms:created>
  <dc:creator>Antonio Maiorano</dc:creator>
  <dc:description/>
  <dc:language>en-US</dc:language>
  <cp:lastModifiedBy>Tony</cp:lastModifiedBy>
  <dcterms:modified xsi:type="dcterms:W3CDTF">2003-08-23T18:10:03Z</dcterms:modified>
  <cp:revision>7</cp:revision>
  <dc:subject/>
  <dc:title>C/C++ Tutorial</dc:title>
</cp:coreProperties>
</file>